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98C-471C-4F0D-96C6-A43187A9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0D8-0A0F-4916-9B3B-51DA01AF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CDD-8D3F-47DE-87FA-8DED1E62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A52-BA08-4198-B682-B90F3736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F8F3-B2F9-4A24-8ACC-F496AF6A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9E49-4502-4EFC-9194-54699C01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5773-2F04-4CFB-A7A7-8D05248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8595-AC5D-4163-B234-BC82632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ADD-ECC7-477E-A47B-11896291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B278-7DEF-4F88-8EEA-0AE0595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428-0BFF-4319-A5AD-4CC6DD4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391-79BC-4F62-8A06-C674C367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56B-487C-4458-AF5F-980E10C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9CAC-4F50-4707-A98F-2295E1C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1A57-F0B4-4CD3-9993-9A57395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049-6B3C-4243-819C-F839B8D1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C513-69DD-4666-BED8-A22A27E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B09-CC86-422A-848D-D64F0E29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89A-A2C2-40FA-A590-B16388E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BA2-C634-4645-8904-0F64CE7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F15-E33C-4AEF-B9A2-0BC4001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FFC-AD2A-435C-A412-0768757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919-1542-425A-B1FB-555FDA0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0E3-6E3C-442C-B494-A20E04D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6A3-42E8-410D-8F4A-67EFEC93AB88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727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D72A-512A-4427-AD6A-75B744307E6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6360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Verdana"/>
              </a:rPr>
              <a:t>Desafíos y Oportunidades en la  Vinculación de las Universidades con los Parques Industriales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5840" y="44280"/>
            <a:ext cx="668520" cy="76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82880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612720" y="2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Universidad Tecnológica N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acultad Regional Bahía Bl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cretaría de Ciencia y Tecn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Dirección de Vinculación Tecnológ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361440" y="5105160"/>
            <a:ext cx="84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IX Reunión Plenaria RedVIT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Las Universidades y su relación con los Entornos Productivos Reg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Santiago del Estero, 29 y 30 de Mayo 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280" y="1236600"/>
            <a:ext cx="8569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ecesitan ampliar sus merc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n promedio, el 75% de la producción se destina a la reg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compran poco en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n promedio, el 60 % de los insumos lo compran en otras reg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aprovechan la capacidad de compra para abaratar cos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no existe 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Pool de Compra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falta mano de obra especializ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se visualiza como una limitante del cre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ecesitan mejorar el equipamiento y/o la 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xiste demanda de proveedores insatisfecha (oportunidades de negoc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entendimos del negocio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24000" y="1484280"/>
            <a:ext cx="88200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existe articulación entre los Gobiernos y l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sfuerzos aislados  (Villari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existen proyectos asociativos entre empresas (desconfian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para producir, comprar materia prima, contratar servici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l financiamiento promocional no esta difund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los empresarios no detectan oportunidades de financiamiento “bland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los instrumentos de financiamiento de los Gobiernos no son aprovechados por comp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los empresarios y los organismos de CyT están poco conec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entendimos del contexto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60360" y="1157400"/>
            <a:ext cx="66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Dos ej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Distrit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Parque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Bahía Bl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Tres Arroy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acciones emprendimos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717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Creación del </a:t>
            </a:r>
            <a:br>
              <a:rPr sz="4000"/>
            </a:b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Distrito Metalmecánico del Sur</a:t>
            </a:r>
            <a:br>
              <a:rPr sz="4000"/>
            </a:b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(DIMSUR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cc"/>
                </a:solidFill>
                <a:latin typeface="Verdana"/>
                <a:ea typeface="Times New Roman"/>
              </a:rPr>
              <a:t>Esquema de trabajo propuesto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ivisión inicial de cinco (5) Distritos Productivos por sub-región geográfica y área de especializació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tapa de sensibilización desarrollada en conjunto con el programa Distritos Productivos (Ministerio Producción Pcia Buenos Aires). Conformación de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grupos asociativo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studio de necesidades, apoyo en la formulación de planes de trabajo y consenso entre los actores.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Proyecto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Gestión e implementación de proyectos (INET, Ministerio de Trabajo de la Nación, etc.).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Materialización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482920" y="1339920"/>
            <a:ext cx="4176720" cy="4176720"/>
          </a:xfrm>
          <a:prstGeom prst="ellipse">
            <a:avLst/>
          </a:prstGeom>
          <a:gradFill rotWithShape="0">
            <a:gsLst>
              <a:gs pos="0">
                <a:srgbClr val="655824"/>
              </a:gs>
              <a:gs pos="100000">
                <a:srgbClr val="ddbf4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Estructura del DIMSUR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375000" y="2289240"/>
            <a:ext cx="2394000" cy="2279520"/>
          </a:xfrm>
          <a:prstGeom prst="ellipse">
            <a:avLst/>
          </a:prstGeom>
          <a:gradFill rotWithShape="0">
            <a:gsLst>
              <a:gs pos="0">
                <a:srgbClr val="ffff99">
                  <a:alpha val="60392"/>
                </a:srgbClr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Py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692360" y="4086360"/>
            <a:ext cx="1752480" cy="1143000"/>
            <a:chOff x="1692360" y="4086360"/>
            <a:chExt cx="1752480" cy="1143000"/>
          </a:xfrm>
        </p:grpSpPr>
        <p:sp>
          <p:nvSpPr>
            <p:cNvPr id="427" name=""/>
            <p:cNvSpPr/>
            <p:nvPr/>
          </p:nvSpPr>
          <p:spPr>
            <a:xfrm>
              <a:off x="1692360" y="4086360"/>
              <a:ext cx="1752480" cy="114300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89280" y="429444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 Nac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699160" y="1646280"/>
            <a:ext cx="1752480" cy="990720"/>
            <a:chOff x="5699160" y="1646280"/>
            <a:chExt cx="1752480" cy="990720"/>
          </a:xfrm>
        </p:grpSpPr>
        <p:sp>
          <p:nvSpPr>
            <p:cNvPr id="430" name=""/>
            <p:cNvSpPr/>
            <p:nvPr/>
          </p:nvSpPr>
          <p:spPr>
            <a:xfrm>
              <a:off x="5699160" y="1646280"/>
              <a:ext cx="1752480" cy="99072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14880" y="177192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 Provinc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699160" y="4238640"/>
            <a:ext cx="1752480" cy="990360"/>
            <a:chOff x="5699160" y="4238640"/>
            <a:chExt cx="1752480" cy="990360"/>
          </a:xfrm>
        </p:grpSpPr>
        <p:sp>
          <p:nvSpPr>
            <p:cNvPr id="433" name=""/>
            <p:cNvSpPr/>
            <p:nvPr/>
          </p:nvSpPr>
          <p:spPr>
            <a:xfrm>
              <a:off x="5699160" y="4238640"/>
              <a:ext cx="1752480" cy="99036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8240" y="4383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692360" y="1628640"/>
            <a:ext cx="1752480" cy="990720"/>
            <a:chOff x="1692360" y="1628640"/>
            <a:chExt cx="1752480" cy="990720"/>
          </a:xfrm>
        </p:grpSpPr>
        <p:sp>
          <p:nvSpPr>
            <p:cNvPr id="436" name=""/>
            <p:cNvSpPr/>
            <p:nvPr/>
          </p:nvSpPr>
          <p:spPr>
            <a:xfrm>
              <a:off x="1692360" y="1628640"/>
              <a:ext cx="1752480" cy="99072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360" y="1915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Univ y 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419640" y="472428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  <a:ea typeface="Arial"/>
              </a:rPr>
              <a:t>Distr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  <a:ea typeface="Arial"/>
              </a:rPr>
              <a:t>Produc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79280" y="422280"/>
            <a:ext cx="8785440" cy="601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>
                  <a:alpha val="70196"/>
                </a:srgbClr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54936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GOBIERNO NACIONAL, PROVINCIAL Y MUNICIP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(POLÍTICAS ACTIVAS DE PROMOCIÓN INDUSTRIALY APORTES FINANCIE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24000" y="1989000"/>
            <a:ext cx="3239640" cy="1942920"/>
            <a:chOff x="324000" y="1989000"/>
            <a:chExt cx="3239640" cy="1942920"/>
          </a:xfrm>
        </p:grpSpPr>
        <p:sp>
          <p:nvSpPr>
            <p:cNvPr id="442" name=""/>
            <p:cNvSpPr/>
            <p:nvPr/>
          </p:nvSpPr>
          <p:spPr>
            <a:xfrm>
              <a:off x="325080" y="1989000"/>
              <a:ext cx="3238560" cy="1942920"/>
            </a:xfrm>
            <a:prstGeom prst="rightArrowCallout">
              <a:avLst>
                <a:gd name="adj1" fmla="val 25002"/>
                <a:gd name="adj2" fmla="val 25000"/>
                <a:gd name="adj3" fmla="val 27781"/>
                <a:gd name="adj4" fmla="val 6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643840"/>
              <a:ext cx="22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UNIV Y CTROS DE INVESTIG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578400" y="2017800"/>
            <a:ext cx="3095280" cy="1873080"/>
            <a:chOff x="3578400" y="2017800"/>
            <a:chExt cx="3095280" cy="1873080"/>
          </a:xfrm>
        </p:grpSpPr>
        <p:sp>
          <p:nvSpPr>
            <p:cNvPr id="445" name=""/>
            <p:cNvSpPr/>
            <p:nvPr/>
          </p:nvSpPr>
          <p:spPr>
            <a:xfrm>
              <a:off x="3578400" y="2017800"/>
              <a:ext cx="3095280" cy="187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2246400"/>
              <a:ext cx="2408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ISTRITO PRODUCTIV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(ENTIDA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49640" y="4508640"/>
            <a:ext cx="1601640" cy="1255320"/>
            <a:chOff x="4049640" y="4508640"/>
            <a:chExt cx="1601640" cy="1255320"/>
          </a:xfrm>
        </p:grpSpPr>
        <p:sp>
          <p:nvSpPr>
            <p:cNvPr id="448" name=""/>
            <p:cNvSpPr/>
            <p:nvPr/>
          </p:nvSpPr>
          <p:spPr>
            <a:xfrm>
              <a:off x="4049640" y="4508640"/>
              <a:ext cx="1285560" cy="122364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06840" y="539568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994360" y="4494240"/>
            <a:ext cx="1601640" cy="1255680"/>
            <a:chOff x="5994360" y="4494240"/>
            <a:chExt cx="1601640" cy="1255680"/>
          </a:xfrm>
        </p:grpSpPr>
        <p:sp>
          <p:nvSpPr>
            <p:cNvPr id="451" name=""/>
            <p:cNvSpPr/>
            <p:nvPr/>
          </p:nvSpPr>
          <p:spPr>
            <a:xfrm>
              <a:off x="5994360" y="4494240"/>
              <a:ext cx="1285560" cy="122400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51560" y="538164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050920" y="4508640"/>
            <a:ext cx="1601640" cy="1255320"/>
            <a:chOff x="2050920" y="4508640"/>
            <a:chExt cx="1601640" cy="1255320"/>
          </a:xfrm>
        </p:grpSpPr>
        <p:sp>
          <p:nvSpPr>
            <p:cNvPr id="454" name=""/>
            <p:cNvSpPr/>
            <p:nvPr/>
          </p:nvSpPr>
          <p:spPr>
            <a:xfrm>
              <a:off x="2050920" y="4508640"/>
              <a:ext cx="1285560" cy="122364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8120" y="539568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56" name=""/>
          <p:cNvCxnSpPr/>
          <p:nvPr/>
        </p:nvCxnSpPr>
        <p:spPr>
          <a:xfrm flipH="1" rot="16200000">
            <a:off x="4056840" y="4735440"/>
            <a:ext cx="2160" cy="1999080"/>
          </a:xfrm>
          <a:prstGeom prst="curvedConnector5">
            <a:avLst>
              <a:gd name="adj1" fmla="val 19000000"/>
              <a:gd name="adj2" fmla="val 50000"/>
              <a:gd name="adj3" fmla="val 1900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7" name=""/>
          <p:cNvCxnSpPr>
            <a:stCxn id="448" idx="0"/>
            <a:endCxn id="452" idx="2"/>
          </p:cNvCxnSpPr>
          <p:nvPr/>
        </p:nvCxnSpPr>
        <p:spPr>
          <a:xfrm flipH="1" rot="16200000">
            <a:off x="5545080" y="4268520"/>
            <a:ext cx="16560" cy="2944080"/>
          </a:xfrm>
          <a:prstGeom prst="curvedConnector5">
            <a:avLst>
              <a:gd name="adj1" fmla="val 1528888"/>
              <a:gd name="adj2" fmla="val 49993"/>
              <a:gd name="adj3" fmla="val 1528888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8" name=""/>
          <p:cNvCxnSpPr>
            <a:stCxn id="454" idx="0"/>
            <a:endCxn id="451" idx="0"/>
          </p:cNvCxnSpPr>
          <p:nvPr/>
        </p:nvCxnSpPr>
        <p:spPr>
          <a:xfrm flipH="1" flipV="1" rot="5400000">
            <a:off x="4046040" y="3753360"/>
            <a:ext cx="15120" cy="3943800"/>
          </a:xfrm>
          <a:prstGeom prst="curvedConnector5">
            <a:avLst>
              <a:gd name="adj1" fmla="val -3421951"/>
              <a:gd name="adj2" fmla="val 50000"/>
              <a:gd name="adj3" fmla="val -3421951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9" name=""/>
          <p:cNvCxnSpPr>
            <a:stCxn id="454" idx="1"/>
            <a:endCxn id="445" idx="2"/>
          </p:cNvCxnSpPr>
          <p:nvPr/>
        </p:nvCxnSpPr>
        <p:spPr>
          <a:xfrm flipH="1" flipV="1" rot="5400000">
            <a:off x="3537360" y="3048120"/>
            <a:ext cx="747000" cy="2431080"/>
          </a:xfrm>
          <a:prstGeom prst="curvedConnector5">
            <a:avLst>
              <a:gd name="adj1" fmla="val 58486"/>
              <a:gd name="adj2" fmla="val 50000"/>
              <a:gd name="adj3" fmla="val 58486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0" name=""/>
          <p:cNvCxnSpPr>
            <a:stCxn id="448" idx="1"/>
            <a:endCxn id="445" idx="2"/>
          </p:cNvCxnSpPr>
          <p:nvPr/>
        </p:nvCxnSpPr>
        <p:spPr>
          <a:xfrm flipV="1">
            <a:off x="4981320" y="3890880"/>
            <a:ext cx="144720" cy="1356120"/>
          </a:xfrm>
          <a:prstGeom prst="curvedConnector5">
            <a:avLst>
              <a:gd name="adj1" fmla="val 404239"/>
              <a:gd name="adj2" fmla="val 38635"/>
              <a:gd name="adj3" fmla="val 404239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1" name=""/>
          <p:cNvCxnSpPr>
            <a:stCxn id="451" idx="1"/>
            <a:endCxn id="445" idx="2"/>
          </p:cNvCxnSpPr>
          <p:nvPr/>
        </p:nvCxnSpPr>
        <p:spPr>
          <a:xfrm flipH="1" flipV="1">
            <a:off x="5125320" y="3890520"/>
            <a:ext cx="1801080" cy="1342080"/>
          </a:xfrm>
          <a:prstGeom prst="curvedConnector5">
            <a:avLst>
              <a:gd name="adj1" fmla="val -32347"/>
              <a:gd name="adj2" fmla="val 38744"/>
              <a:gd name="adj3" fmla="val -3234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6877080" y="2157480"/>
            <a:ext cx="194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MEJORA DE LA GESTION COMER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PLANEAMIENTO ESTRATÉ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395280" y="585720"/>
            <a:ext cx="3141720" cy="5686560"/>
            <a:chOff x="395280" y="585720"/>
            <a:chExt cx="3141720" cy="568656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395280" y="585720"/>
              <a:ext cx="3141720" cy="56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808280" y="3176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676a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40360" y="212760"/>
            <a:ext cx="4559040" cy="6431040"/>
            <a:chOff x="4140360" y="212760"/>
            <a:chExt cx="4559040" cy="6431040"/>
          </a:xfrm>
        </p:grpSpPr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4140360" y="212760"/>
              <a:ext cx="4559040" cy="64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140360" y="3429000"/>
              <a:ext cx="2089080" cy="2089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38160">
              <a:solidFill>
                <a:srgbClr val="676a5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268360" y="3925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6a5c"/>
                </a:solidFill>
                <a:latin typeface="Tahoma"/>
                <a:ea typeface="Arial"/>
              </a:rPr>
              <a:t>DIM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/>
          <p:nvPr/>
        </p:nvCxnSpPr>
        <p:spPr>
          <a:xfrm>
            <a:off x="2268360" y="3429000"/>
            <a:ext cx="550080" cy="534240"/>
          </a:xfrm>
          <a:prstGeom prst="curvedConnector2">
            <a:avLst/>
          </a:prstGeom>
          <a:ln w="12600">
            <a:solidFill>
              <a:srgbClr val="676a5c"/>
            </a:solidFill>
            <a:miter/>
            <a:head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6156360" y="53672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6a5c"/>
                </a:solidFill>
                <a:latin typeface="Tahoma"/>
                <a:ea typeface="Arial"/>
              </a:rPr>
              <a:t>DIM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2" name=""/>
          <p:cNvCxnSpPr/>
          <p:nvPr/>
        </p:nvCxnSpPr>
        <p:spPr>
          <a:xfrm>
            <a:off x="6156360" y="4870440"/>
            <a:ext cx="550080" cy="534240"/>
          </a:xfrm>
          <a:prstGeom prst="curvedConnector2">
            <a:avLst/>
          </a:prstGeom>
          <a:ln w="12600">
            <a:solidFill>
              <a:srgbClr val="676a5c"/>
            </a:solidFill>
            <a:miter/>
            <a:head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11120" y="-5140440"/>
            <a:ext cx="8321760" cy="11736360"/>
            <a:chOff x="411120" y="-5140440"/>
            <a:chExt cx="8321760" cy="1173636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411120" y="-5140440"/>
              <a:ext cx="8321760" cy="117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1908000" y="2709720"/>
              <a:ext cx="935280" cy="863640"/>
            </a:xfrm>
            <a:prstGeom prst="ellipse">
              <a:avLst/>
            </a:prstGeom>
            <a:noFill/>
            <a:ln w="47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337320" y="3486600"/>
              <a:ext cx="2276280" cy="1150920"/>
            </a:xfrm>
            <a:prstGeom prst="ellipse">
              <a:avLst/>
            </a:prstGeom>
            <a:noFill/>
            <a:ln w="47520">
              <a:solidFill>
                <a:srgbClr val="fd6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564800">
              <a:off x="2268000" y="1916280"/>
              <a:ext cx="2303640" cy="1368360"/>
            </a:xfrm>
            <a:prstGeom prst="ellipse">
              <a:avLst/>
            </a:prstGeom>
            <a:noFill/>
            <a:ln w="47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451200">
              <a:off x="1006920" y="872280"/>
              <a:ext cx="1368360" cy="1871640"/>
            </a:xfrm>
            <a:prstGeom prst="ellipse">
              <a:avLst/>
            </a:prstGeom>
            <a:noFill/>
            <a:ln w="47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9440" y="414360"/>
              <a:ext cx="4157640" cy="5931000"/>
            </a:xfrm>
            <a:custGeom>
              <a:avLst/>
              <a:gdLst/>
              <a:ahLst/>
              <a:rect l="l" t="t" r="r" b="b"/>
              <a:pathLst>
                <a:path w="2619" h="3736">
                  <a:moveTo>
                    <a:pt x="2619" y="1671"/>
                  </a:moveTo>
                  <a:lnTo>
                    <a:pt x="2563" y="1419"/>
                  </a:lnTo>
                  <a:lnTo>
                    <a:pt x="2475" y="1355"/>
                  </a:lnTo>
                  <a:lnTo>
                    <a:pt x="2407" y="1287"/>
                  </a:lnTo>
                  <a:lnTo>
                    <a:pt x="2495" y="1163"/>
                  </a:lnTo>
                  <a:lnTo>
                    <a:pt x="2435" y="1107"/>
                  </a:lnTo>
                  <a:lnTo>
                    <a:pt x="2381" y="1167"/>
                  </a:lnTo>
                  <a:lnTo>
                    <a:pt x="2135" y="969"/>
                  </a:lnTo>
                  <a:lnTo>
                    <a:pt x="1995" y="1051"/>
                  </a:lnTo>
                  <a:lnTo>
                    <a:pt x="1567" y="679"/>
                  </a:lnTo>
                  <a:lnTo>
                    <a:pt x="1307" y="915"/>
                  </a:lnTo>
                  <a:lnTo>
                    <a:pt x="1255" y="859"/>
                  </a:lnTo>
                  <a:lnTo>
                    <a:pt x="1364" y="742"/>
                  </a:lnTo>
                  <a:lnTo>
                    <a:pt x="1319" y="697"/>
                  </a:lnTo>
                  <a:lnTo>
                    <a:pt x="1299" y="663"/>
                  </a:lnTo>
                  <a:lnTo>
                    <a:pt x="1307" y="635"/>
                  </a:lnTo>
                  <a:lnTo>
                    <a:pt x="1239" y="527"/>
                  </a:lnTo>
                  <a:lnTo>
                    <a:pt x="1283" y="479"/>
                  </a:lnTo>
                  <a:lnTo>
                    <a:pt x="1183" y="379"/>
                  </a:lnTo>
                  <a:lnTo>
                    <a:pt x="1123" y="31"/>
                  </a:lnTo>
                  <a:cubicBezTo>
                    <a:pt x="1099" y="0"/>
                    <a:pt x="1080" y="122"/>
                    <a:pt x="1059" y="131"/>
                  </a:cubicBezTo>
                  <a:cubicBezTo>
                    <a:pt x="1036" y="101"/>
                    <a:pt x="1025" y="95"/>
                    <a:pt x="999" y="83"/>
                  </a:cubicBezTo>
                  <a:cubicBezTo>
                    <a:pt x="926" y="162"/>
                    <a:pt x="867" y="214"/>
                    <a:pt x="787" y="287"/>
                  </a:cubicBezTo>
                  <a:cubicBezTo>
                    <a:pt x="744" y="339"/>
                    <a:pt x="739" y="325"/>
                    <a:pt x="707" y="371"/>
                  </a:cubicBezTo>
                  <a:lnTo>
                    <a:pt x="551" y="507"/>
                  </a:lnTo>
                  <a:cubicBezTo>
                    <a:pt x="506" y="462"/>
                    <a:pt x="510" y="462"/>
                    <a:pt x="457" y="425"/>
                  </a:cubicBezTo>
                  <a:cubicBezTo>
                    <a:pt x="448" y="419"/>
                    <a:pt x="241" y="585"/>
                    <a:pt x="235" y="595"/>
                  </a:cubicBezTo>
                  <a:cubicBezTo>
                    <a:pt x="168" y="676"/>
                    <a:pt x="74" y="759"/>
                    <a:pt x="7" y="831"/>
                  </a:cubicBezTo>
                  <a:cubicBezTo>
                    <a:pt x="0" y="1459"/>
                    <a:pt x="49" y="2955"/>
                    <a:pt x="94" y="3373"/>
                  </a:cubicBezTo>
                  <a:lnTo>
                    <a:pt x="321" y="3418"/>
                  </a:lnTo>
                  <a:lnTo>
                    <a:pt x="457" y="3645"/>
                  </a:lnTo>
                  <a:lnTo>
                    <a:pt x="502" y="3736"/>
                  </a:lnTo>
                  <a:lnTo>
                    <a:pt x="820" y="3554"/>
                  </a:lnTo>
                  <a:lnTo>
                    <a:pt x="865" y="3282"/>
                  </a:lnTo>
                  <a:lnTo>
                    <a:pt x="729" y="3146"/>
                  </a:lnTo>
                  <a:lnTo>
                    <a:pt x="684" y="3056"/>
                  </a:lnTo>
                  <a:lnTo>
                    <a:pt x="774" y="2874"/>
                  </a:lnTo>
                  <a:cubicBezTo>
                    <a:pt x="785" y="2796"/>
                    <a:pt x="789" y="2716"/>
                    <a:pt x="807" y="2639"/>
                  </a:cubicBezTo>
                  <a:cubicBezTo>
                    <a:pt x="809" y="2631"/>
                    <a:pt x="823" y="2637"/>
                    <a:pt x="830" y="2632"/>
                  </a:cubicBezTo>
                  <a:cubicBezTo>
                    <a:pt x="853" y="2616"/>
                    <a:pt x="861" y="2601"/>
                    <a:pt x="875" y="2579"/>
                  </a:cubicBezTo>
                  <a:cubicBezTo>
                    <a:pt x="883" y="2554"/>
                    <a:pt x="882" y="2565"/>
                    <a:pt x="882" y="2549"/>
                  </a:cubicBezTo>
                  <a:lnTo>
                    <a:pt x="910" y="2511"/>
                  </a:lnTo>
                  <a:lnTo>
                    <a:pt x="1001" y="2239"/>
                  </a:lnTo>
                  <a:lnTo>
                    <a:pt x="1001" y="2148"/>
                  </a:lnTo>
                  <a:lnTo>
                    <a:pt x="774" y="1967"/>
                  </a:lnTo>
                  <a:lnTo>
                    <a:pt x="774" y="1740"/>
                  </a:lnTo>
                  <a:lnTo>
                    <a:pt x="1137" y="1876"/>
                  </a:lnTo>
                  <a:lnTo>
                    <a:pt x="1591" y="1876"/>
                  </a:lnTo>
                  <a:lnTo>
                    <a:pt x="2135" y="1785"/>
                  </a:lnTo>
                  <a:lnTo>
                    <a:pt x="2619" y="1671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20720" y="2419200"/>
              <a:ext cx="719280" cy="719280"/>
            </a:xfrm>
            <a:prstGeom prst="ellipse">
              <a:avLst/>
            </a:prstGeom>
            <a:noFill/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203640" y="3789360"/>
            <a:ext cx="55450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DIMS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MAQUINARIA AGRÍCOLA Y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b47f5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4b47f5"/>
                </a:solidFill>
                <a:latin typeface="Tahoma"/>
                <a:ea typeface="Arial"/>
              </a:rPr>
              <a:t>EQUIPOS Y SERVICIOS INDUSTR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1e3f7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21e3f7"/>
                </a:solidFill>
                <a:latin typeface="Tahoma"/>
                <a:ea typeface="Arial"/>
              </a:rPr>
              <a:t>INDUSTRIA NAV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d4d3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d4d3f"/>
                </a:solidFill>
                <a:latin typeface="Tahoma"/>
                <a:ea typeface="Arial"/>
              </a:rPr>
              <a:t>MAQUINARIA HORTÍCO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920" y="43920"/>
            <a:ext cx="87120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1" lang="es-MX" sz="3200" spc="-1" strike="noStrike">
                <a:solidFill>
                  <a:srgbClr val="ffffcc"/>
                </a:solidFill>
                <a:latin typeface="Verdana"/>
                <a:ea typeface="Times New Roman"/>
              </a:rPr>
              <a:t>Objetivos del DIMS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mentar y articular la comunicación y trabajo en conjunto de los distintos municipios y empresas para beneficio del sect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Fortalecer las empresas de la Región mediante información y asistencia técn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Mejorar sus estructuras de costos y procesos de p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versificar sus producciones y merc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romover la inserción internacional de la Reg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dentificar los encadenamientos productivos factibles y las acciones a impulsar para el desarrollo industrial competitivo.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6844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Parque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n ser empresas de distinto ru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en espacio terri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finidad terri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istrito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del mismo rubro o de rubros complemen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en un espacio territorial más amp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finidad sec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esarrollo del DIMSU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Red de trabajo con Municipios y empres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Consenso de objetivos comunes entre las empres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Formulación de proyect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Evaluación de alternativas de financiamiento e impac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Acercamiento a Instituciones y organismos de Cy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Materialización de propues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Result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4696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Distritos Industriales consolidados y uno en etapa de sensibiliz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programas de desarrollo formul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proyectos de capacitación impul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os proyectos de centros de servicios formul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os proyectos de desarrollo de productos en etapa in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Boletín informativo del sector / Páginas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esencia en EXPOAGRO y FISA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agnóstico y asesoramiento por programa Experiencia Py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>
            <a:hlinkClick r:id="rId1" action="ppaction://hlinksldjump"/>
          </p:cNvPr>
          <p:cNvSpPr/>
          <p:nvPr/>
        </p:nvSpPr>
        <p:spPr>
          <a:xfrm>
            <a:off x="8128080" y="63468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0048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21932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istritos Consolid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Naval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13), Municipalidad de Cnel. Rosales, Asociación Bonaerense de Industria Naval, Cámara de talleres Navales de Punta Alta y UT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Distrito Industrial Metalmecánico Hortícola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9), Municipalidad de Villarino y UTN. </a:t>
            </a:r>
            <a:r>
              <a:rPr b="0" lang="es-AR" sz="2700" spc="-1" strike="noStrike">
                <a:solidFill>
                  <a:srgbClr val="ffff00"/>
                </a:solidFill>
                <a:latin typeface="Tahoma"/>
              </a:rPr>
              <a:t>CORFO e INTA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64000" y="1270080"/>
            <a:ext cx="3780000" cy="2158920"/>
            <a:chOff x="5364000" y="1270080"/>
            <a:chExt cx="3780000" cy="2158920"/>
          </a:xfrm>
        </p:grpSpPr>
        <p:sp>
          <p:nvSpPr>
            <p:cNvPr id="493" name=""/>
            <p:cNvSpPr/>
            <p:nvPr/>
          </p:nvSpPr>
          <p:spPr>
            <a:xfrm>
              <a:off x="5488560" y="1270080"/>
              <a:ext cx="23263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a9aab1"/>
                  </a:solidFill>
                  <a:latin typeface="Maiandra GD"/>
                </a:rPr>
                <a:t>NAVAL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64000" y="1270080"/>
              <a:ext cx="3780000" cy="215892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39440" y="1938240"/>
              <a:ext cx="6645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a9aab1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98040" y="178416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54880" y="255528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936640" y="162972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14880" y="240084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29960" y="2812320"/>
              <a:ext cx="34063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a9aab1"/>
                  </a:solidFill>
                  <a:latin typeface="Maiandra GD"/>
                </a:rPr>
                <a:t>Distrito Industrial Naval del Su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a9aab1"/>
                  </a:solidFill>
                  <a:latin typeface="Maiandra GD"/>
                </a:rPr>
                <a:t>www.navalsur.com.a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472000" y="4437000"/>
            <a:ext cx="3672000" cy="1871640"/>
            <a:chOff x="5472000" y="4437000"/>
            <a:chExt cx="3672000" cy="1871640"/>
          </a:xfrm>
        </p:grpSpPr>
        <p:sp>
          <p:nvSpPr>
            <p:cNvPr id="502" name=""/>
            <p:cNvSpPr/>
            <p:nvPr/>
          </p:nvSpPr>
          <p:spPr>
            <a:xfrm>
              <a:off x="5472000" y="4437000"/>
              <a:ext cx="3672000" cy="1871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80000" y="4437000"/>
              <a:ext cx="2304000" cy="87336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cc6600"/>
                  </a:solidFill>
                  <a:latin typeface="Maiandra GD"/>
                </a:rPr>
                <a:t>DIMHO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8000" y="4977720"/>
              <a:ext cx="576000" cy="54072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c6600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48000" y="535212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92000" y="485280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6000" y="551844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892000" y="472788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0000" y="5684760"/>
              <a:ext cx="3456000" cy="2494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cc6600"/>
                  </a:solidFill>
                  <a:latin typeface="Maiandra GD"/>
                </a:rPr>
                <a:t>Distrito Industrial Metalmecánico Hortícola del S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24000" y="5976000"/>
              <a:ext cx="3168000" cy="2494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cc6600"/>
                  </a:solidFill>
                  <a:latin typeface="Maiandra GD"/>
                </a:rPr>
                <a:t>www.dimhosur.com.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istritos Consolid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Distrito Industrial de Máquinas, Equipos y Servicios Industriales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, Consorcio del Parque Industrial de Bahía Blanca, Municipalidad y UTN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Grupo Regional de Empresas Metalmecánicas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12), Municipalidades de Puán y Cnel. Suárez, y UT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219640" y="1413000"/>
            <a:ext cx="3924360" cy="2232000"/>
            <a:chOff x="5219640" y="1413000"/>
            <a:chExt cx="3924360" cy="2232000"/>
          </a:xfrm>
        </p:grpSpPr>
        <p:sp>
          <p:nvSpPr>
            <p:cNvPr id="514" name=""/>
            <p:cNvSpPr/>
            <p:nvPr/>
          </p:nvSpPr>
          <p:spPr>
            <a:xfrm>
              <a:off x="5882760" y="1564920"/>
              <a:ext cx="1519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400" spc="-1" strike="noStrike">
                  <a:solidFill>
                    <a:srgbClr val="ff9900"/>
                  </a:solidFill>
                  <a:latin typeface="Maiandra GD"/>
                </a:rPr>
                <a:t>DIME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93880" y="2021760"/>
              <a:ext cx="44208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9900"/>
                  </a:solidFill>
                  <a:latin typeface="Maiandra GD"/>
                </a:rPr>
                <a:t>Su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38800" y="252900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8800" y="186948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53160" y="257976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7360" y="171720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19640" y="1413000"/>
              <a:ext cx="3924360" cy="2232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0160" y="2833560"/>
              <a:ext cx="37310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Distrito Industrial de maquinarias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equipos y servic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www.dimessur.com.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364000" y="4437000"/>
            <a:ext cx="3780000" cy="1584360"/>
            <a:chOff x="5364000" y="4437000"/>
            <a:chExt cx="3780000" cy="1584360"/>
          </a:xfrm>
        </p:grpSpPr>
        <p:sp>
          <p:nvSpPr>
            <p:cNvPr id="523" name=""/>
            <p:cNvSpPr/>
            <p:nvPr/>
          </p:nvSpPr>
          <p:spPr>
            <a:xfrm>
              <a:off x="5529960" y="4437000"/>
              <a:ext cx="20768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ff0000"/>
                  </a:solidFill>
                  <a:latin typeface="Maiandra GD"/>
                </a:rPr>
                <a:t>GRIM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9440" y="4927320"/>
              <a:ext cx="6645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1720" y="526680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14880" y="481428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79440" y="534240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936640" y="470088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64000" y="4437000"/>
              <a:ext cx="3780000" cy="158436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29960" y="5493240"/>
              <a:ext cx="3530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0000"/>
                  </a:solidFill>
                  <a:latin typeface="Maiandra GD"/>
                </a:rPr>
                <a:t>Grupo Regional de Industrias Metalmecánicas del S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53120" y="5719680"/>
              <a:ext cx="22669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0000"/>
                  </a:solidFill>
                  <a:latin typeface="Maiandra GD"/>
                </a:rPr>
                <a:t>www.grimsur.com.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Componentes de los Programas de Desarrollo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201888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fra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esarrollo de merc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bastecimiento (MP y Servici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Formación de 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financiados por el MTN y MP Pcia Bs.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Proyectos de Capacitación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1760" y="1771200"/>
            <a:ext cx="80658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ronel Rosales: soldadura, tratamiento de superficies, pintura y calderer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Bahía Blanca: máquinas herramientas, tratamiento de superficies, pintura y soldadura. 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(C4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Villarino: máquinas herramientas y soldad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uán: máquinas herramientas y soldad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financiados por el MTN y MP Pcia Bs.As. e 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Centros de Servici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CPIBB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nivel DIMSUR. Servicios de información tecnológica, mercados, productos, patentes, financiamiento y diseñ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Puán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Centro de corte, plegado y tratamiento de superficies metálicas, con abastecimiento de mater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esarrollo de Product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DIMHOSUR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Desarrollo de equipos de riego y nuevo kit de siembra para hortaliz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GRIMSUR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Fabricación de accesorios para vehíc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Información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Boletín electrónico mensual: financiamiento, novedades del sector, sitios de interés y ev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áginas Web: Cuatro páginas Web dentro del DIMSUR. Difusión y comunicación inter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tálogo de empresas de la región: impreso y digi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Verdana"/>
              </a:rPr>
              <a:t>Oferta Regi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611280" y="1125360"/>
          <a:ext cx="8532720" cy="5872320"/>
        </p:xfrm>
        <a:graphic>
          <a:graphicData uri="http://schemas.openxmlformats.org/drawingml/2006/table">
            <a:tbl>
              <a:tblPr/>
              <a:tblGrid>
                <a:gridCol w="4267080"/>
                <a:gridCol w="4265640"/>
              </a:tblGrid>
              <a:tr h="59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embradoras de hortaliz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porcad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smalez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alones Articu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scol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Zanj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structuras y Ting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ordead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tectores de met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Intercambiadores de c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ombas y aco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op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Cosechadoras de ceboll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embradoras de direct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rados de cinceles y diversos implementos de aplicación agríc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ilos y plantas de sil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Nori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Casillas rodant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quipamiento para casillas rod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Muebles, elementos de iluminación y decoración</a:t>
                      </a: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ratamiento de met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Ingeniería y dise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Mantenimiento Indus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Factores que promueven la relación de las Universidades con los Sectores Industrial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7380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sarrollo de lazos de confianza (el paso a pa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ocimiento de la situación actual del sector (entender el negoc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pacidad para resolver problemas concretos (identificación, búsqueda de financiamiento, desarrollo o investig. aplicada, gestión de la transferencia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pacidad para buscar y encontrar soluciones fuera de la propia 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Actividades con los Parques Industrial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Bahía Blanca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Firma de convenio con el Consorcio del Parque 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reación del centro de Capacitación y Certificación de Competencias Profesionales (C4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Próxima apertura de un Oficina de Desarrollo Industrial (programa de scouts tecnológicos, servicios de vigilancia tecnológica y búsqueda de patentes, información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Estudio de Factibilidad para la instalación de un Parque Eó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Varios desarrollos tecnológicos (avión ultraliviano, seguimiento satelital y trasmisión de datos a distancia, tecnología para baterías de bajo mantenimiento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Actividades con los Parques Industrial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Tres Arroyos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Firma de convenio con el Consorcio del Parque 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sesoramiento a empresas en cálculo estructural para disminución de co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sesoramiento en el desarrollo de nueva maquinaria (adaptación de tecnologí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Próxima apertura de un Oficina de Desarrollo Industrial (programa de scouts tecnológicos, servicios de vigilancia tecnológica y búsqueda de patentes, información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6360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Verdana"/>
              </a:rPr>
              <a:t>Desafíos y Oportunidades en la  Vinculación de las Universidades con los Parques Industriales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5840" y="44280"/>
            <a:ext cx="668520" cy="765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82880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-612720" y="2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Universidad Tecnológica N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acultad Regional Bahía Bl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cretaría de Ciencia y Tecn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Dirección de Vinculación Tecnológ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61440" y="5105160"/>
            <a:ext cx="84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IX Reunión Plenaria RedVIT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Las Universidades y su relación con los Entornos Productivos Reg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Santiago del Estero, 29 y 30 de Mayo 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cc"/>
                </a:solidFill>
                <a:latin typeface="Tahoma"/>
              </a:rPr>
              <a:t>¿Qué hicimos para desarrollar lazos de confianza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540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aplicamos el paso a pa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omenzamos con servicios de baja calific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capacitación, ensayos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asesoramos en la aplicación de tecnología conocida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ej. modernización de procesos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arrollamos nuevas aplicaciones de tecnologías conocidas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ej. transmisión de datos a distancia, desarrollo de softwa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arrollo tecnológic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ej, aspersores de bajo costo para horticultura, bolsas biodegradables, avión ultralivian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cc"/>
                </a:solidFill>
                <a:latin typeface="Tahoma"/>
              </a:rPr>
              <a:t>¿Qué hicimos para conocer la situación actual del sector (conocer el negocio)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540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levamiento de Empres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Búsqueda en Directorios, comunicación telefó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(especialización en las metalmecánic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studio exploratorio (ANPCyT- Programa de Competitivida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racterización de empresas e identificación de problemá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etección de necesidades en áreas diversas, pero comunes entre las empresas.</a:t>
            </a:r>
            <a:r>
              <a:rPr b="1" lang="es-MX" sz="2000" spc="-1" strike="noStrike">
                <a:solidFill>
                  <a:srgbClr val="21e3f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nálisis del Contex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4000"/>
            </a:br>
            <a:r>
              <a:rPr b="1" lang="es-AR" sz="2000" spc="-1" strike="noStrike">
                <a:solidFill>
                  <a:srgbClr val="ffffcc"/>
                </a:solidFill>
                <a:latin typeface="Verdana"/>
              </a:rPr>
              <a:t>Concentración de empres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26920" y="1773360"/>
          <a:ext cx="7823520" cy="44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8235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828800" y="1676520"/>
          <a:ext cx="632448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32448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1066680" y="525780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Not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Los valores expresan la relación porcentual de productos y servicios generados con respecto a los destinos fin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96080" y="4495680"/>
            <a:ext cx="457200" cy="457200"/>
          </a:xfrm>
          <a:prstGeom prst="ellipse">
            <a:avLst/>
          </a:prstGeom>
          <a:noFill/>
          <a:ln w="38160">
            <a:solidFill>
              <a:srgbClr val="fd4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505320"/>
            <a:ext cx="914400" cy="1523880"/>
          </a:xfrm>
          <a:prstGeom prst="ellipse">
            <a:avLst/>
          </a:prstGeom>
          <a:noFill/>
          <a:ln w="38160">
            <a:solidFill>
              <a:srgbClr val="4b4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1676520"/>
            <a:ext cx="2438280" cy="1523880"/>
          </a:xfrm>
          <a:prstGeom prst="line">
            <a:avLst/>
          </a:prstGeom>
          <a:ln w="9360">
            <a:solidFill>
              <a:srgbClr val="67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1676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76a5c"/>
                </a:solidFill>
                <a:latin typeface="Arial"/>
              </a:rPr>
              <a:t>Destino de la 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124080"/>
            <a:ext cx="990720" cy="2057400"/>
          </a:xfrm>
          <a:prstGeom prst="ellipse">
            <a:avLst/>
          </a:prstGeom>
          <a:noFill/>
          <a:ln w="38160">
            <a:solidFill>
              <a:srgbClr val="5ee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2800"/>
            </a:br>
            <a:r>
              <a:rPr b="1" lang="es-AR" sz="2800" spc="-1" strike="noStrike">
                <a:solidFill>
                  <a:srgbClr val="ffffcc"/>
                </a:solidFill>
                <a:latin typeface="Verdana"/>
              </a:rPr>
              <a:t>Alcances comercial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3280" y="1052640"/>
          <a:ext cx="810108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052640"/>
                    <a:ext cx="810108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-2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2400"/>
            </a:b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Principales Necesidades Detectad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371600" y="5921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ta: los porcentajes se reflejan sobre el total de empresas relev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69800" y="1477800"/>
          <a:ext cx="8204400" cy="42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477800"/>
                    <a:ext cx="820440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01680" y="189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  <a:ea typeface="Arial"/>
              </a:rPr>
              <a:t>Resultados del Estudio Exploratorio</a:t>
            </a:r>
            <a:br>
              <a:rPr sz="2400"/>
            </a:br>
            <a:r>
              <a:rPr b="1" lang="es-AR" sz="2000" spc="-1" strike="noStrike">
                <a:solidFill>
                  <a:srgbClr val="ffffcc"/>
                </a:solidFill>
                <a:latin typeface="Tahoma"/>
                <a:ea typeface="Arial"/>
              </a:rPr>
              <a:t>Perspec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08-05-29T11:17:50Z</dcterms:modified>
  <cp:revision>289</cp:revision>
  <dc:subject/>
  <dc:title>PowerPoint Presentation</dc:title>
</cp:coreProperties>
</file>